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61C-B75D-4ACC-9FBE-D58EC923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B36-B878-4650-B764-6E0CE5C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BD1-BEF3-40D2-A623-44566706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112-E8EA-4C4A-A6E0-903F825E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1EDA-6468-4907-BDDB-386C7A37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C17-5839-41A3-83C6-8E56D51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3305-AD81-482B-8BD7-4B9A64B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EF3C-82FB-4467-95E6-9E95FB0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28D8-691C-430A-B00F-E866F3D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820-0EFE-494C-9A71-195D55C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C3B-DD8D-46E9-9707-B6B988F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4F3-1C09-4B57-986E-495EA4ED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DFDE-7BB2-4771-A6ED-E8867FB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556D-41B7-4E0C-94FA-F19DCB2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AC26-255D-41BA-9D6B-BDE7870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06F-2AD7-4757-BF19-30F79F10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8D6-BD91-4FF4-BA52-FCABD370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1AEF-2634-4210-88F5-4F6136D5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72A2-6367-4043-9883-9590CD4F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F3DB-4F86-4FB2-8164-ACCC76E8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62E9-3B7B-4236-9DC1-892DC99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5A51-03FD-46C3-9CE1-74B30C9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F9E-5305-4458-AA69-29A1ABD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9970-B4CF-400C-948F-FDA4328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D7B2-FE33-41F4-BFA4-286FA5D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6736-DB7C-4CE9-A802-439D359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0999-81E0-493B-95FB-D33E7B6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BFFA-2B26-465F-94A0-7DAB2236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635C-F2C5-4C8B-95EC-8314D301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8A09-A715-4501-BD3C-F5FC4EE1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894A-01F3-4E76-8DBA-D5CD3B9D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8730-B9B8-4352-97C7-902EF07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B58B-5A01-42E9-8C43-0B4C0AF3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97F-F5CA-456A-87E2-B75FFE9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1746-CFD3-4F58-9ADC-94CF66B5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FF04-83D0-4C7B-9609-9A3FC89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1B46-0CF2-4AF2-BCD3-263C19A1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820A-F2C9-4D76-BAF0-0DBABBD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95C1-9D60-45B9-863B-B4101D4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28D4-0305-4004-AD56-EF90EB6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2317-D521-49F5-B50A-135A254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0794-E6D8-4516-8039-2F7E25AE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3D36-F462-4D40-BCFC-3AFD7129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AB61-C65B-4191-93F3-83207CC3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193-D14A-4A1C-A595-DF2F34A6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457B-0948-43F0-BE68-FD71131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910F-0261-4121-A03F-007DCC2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EBD0-B82D-4089-B38C-4C49173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D455-A81F-4122-9D5C-E18BF8E7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00DC-F5E7-4961-A3CC-8EE2BFA5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AC0C-B162-49D4-B66D-12A0E2E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DCB8-677A-4675-A687-41BA55E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4CCF-401D-4382-B696-91522AA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F33D-E477-4780-A3BC-BF342DD9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9A66-CEC9-4C0B-928C-E07FAD51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16D-1DE5-4B92-A793-FA30979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D86E-1752-47F7-8B49-D0F6DF77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D2A2-A429-429C-9924-F7D5708D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20DBC-9943-44AB-9BBA-8A9CD364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A2CC-39A3-4721-A383-2B6D2AF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8BC0-9326-44F3-9DDD-6C64369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91EC0-A94A-4AAF-917F-0B8F4868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A48C-89B2-4306-8B1C-5FF11AC5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F0EB-99FC-4813-A6BD-89911100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25B8-A9A0-4EAA-9050-B354BCA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9756-CB6E-437A-80A3-162E6E3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A95-360F-4E83-AD6F-D13F9D0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0263-50BD-43F2-8B39-7DA903D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0D68-E9A9-4214-9D54-BEE35246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219A-2743-4C23-A3CE-983A6939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B895-66DF-461D-AC5A-0D466E77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B708-D45B-4461-B3E7-D3CD559A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360A-29C1-4FAD-A3E2-040D646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06D9-D05E-4D8A-BFA8-9A90C3D5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958B-ABE4-4549-9EDE-05A1777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67B8-505C-461D-9CCE-0EFE812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2426-A01B-42E6-BA88-A821891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11F-3A74-4D7B-9683-4739EA6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171A5-C6CB-4BC6-B9CE-5D43D5E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D8C4-2CF2-4899-834D-87D0B4B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16E7-A898-4536-80AA-F2653C1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89F7C-CE10-4306-98B1-AA0F1EF5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D134-D157-4742-A0E1-69A77ED5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0DC-F096-4BE9-BEDE-46A6D6F4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343-BF69-443D-BE48-DA9A6DD4AD0E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290-0274-4FEB-B655-3ED8CDFA7EDC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5F5-6A08-4A37-AA78-98B7FD1F63A4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244-351D-4526-9C9F-AB89478E7EE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DFF0-C047-48E0-A0A3-802315ECBE2B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F7C-D812-4F83-BC97-3480E1D653B9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8A6-7DCD-4C26-91B5-FB8208846076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n&#243;nimo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Texto argumentativo (Mentefacto Conceptu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ara recordar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El texto argumentativo es utilizado como 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inónimo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 de "discurso argumentativo", y hace referencia tanto a la expresión corporal o escrita como a la teatral. El texto argumentativo tiene como objetivo "atacar" o en algunos casos defender una opinión mediante justificaciones o razones con el fin de persuadir o convencer al receptor. La finalidad del emisor puede ser probar o demostrar una idea o tesis, refutar la contraria, o bien persuadir o disuadir al receptor sobre determinados comportamientos, hechos o idea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65280" y="457200"/>
            <a:ext cx="79610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21:19:57Z</dcterms:created>
  <dc:creator>Wolf</dc:creator>
  <dc:description/>
  <dc:language>en-US</dc:language>
  <cp:lastModifiedBy>Wolf</cp:lastModifiedBy>
  <dcterms:modified xsi:type="dcterms:W3CDTF">2012-11-20T19:55:30Z</dcterms:modified>
  <cp:revision>5</cp:revision>
  <dc:subject/>
  <dc:title>Diapositiva 1</dc:title>
</cp:coreProperties>
</file>